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A8A-B73D-48CD-BC12-AA6C583F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28A-A375-4547-AD5C-6D181DB0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23592-E368-48CC-A427-279EFD6D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FF3C0-CEBD-457E-9F2B-E2B7FAC0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E8733-B1D8-431B-BF61-BEE8753E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DA092-A6B0-448E-AE0F-32E94E52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2E47C-C3DA-41B5-BAD9-762DAD08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7CC52-D8E1-4F1F-9422-E66E64CB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CCD94-CAFA-472C-B44F-EF8611B6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CD8E1-2D68-4415-87F1-E72D5983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8368B-C226-43AF-8C4F-716A29B6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DC09D-E9FE-48F8-91F9-EC3C6E99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37F-CA63-4A09-83D1-FF6230B1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06FA2-41CE-4E9D-9A13-D67001AA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2A8FB-5B10-46B1-8E3F-1498331C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1CD5E-F1D2-4522-A24D-BFB8DCE8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49656-3C4B-4101-8217-F741A1C0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DD4ED-CEFA-4459-962E-9A9BB601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C209C-CBE0-4A96-9334-29B3FEE3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7AFAB-ED25-4731-87C9-D3C36D40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2AF9B-0920-406C-BE13-FB7E1ED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E37C1-B586-493B-92CF-9B310147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F2B33-5312-4583-B4D1-FA0126EB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B37-6162-42CA-B11A-B0AEF1B3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05049-3F6B-4F26-9CF5-9FFB8A99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8F80C-C030-413F-957E-B409CDB2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99E27-BDBD-48FB-9050-321319D6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5ED8D-8F29-4DC1-926E-2CBA841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EF88B-93A3-4AAE-B1BF-21C12C9D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C817F-A23D-4E8E-A611-EBBEA35C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E7036-9456-4124-A174-10D77210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84658-F269-43BB-805C-D51DABBA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F3E90-91BA-4282-A210-88BCDAEF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0914A-7FC7-4366-8A0C-C734BEF4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9274-0103-4FD3-B466-0CFAD781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265BC-BB6F-4406-AF50-DFE8D9E3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9810F-2E04-4E10-9EC2-5B5BF061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93B6D-CA67-463A-91D7-AB573854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09003-5A5D-4A65-9701-91E7B2D7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06897-9D81-499B-B0E8-0B7B4BC8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1BBAF-B7CF-4594-8B4A-CD05F109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93A79-66CA-48EA-9743-A660D00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4B927-0422-4B8D-BE47-B73E9924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3CCE5-092D-425D-B139-D36FACD6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90A8C-3A05-4A81-AA35-135350FF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A5C7-478A-4FEA-A633-3A47EBA9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28DCE-9EFD-4A49-8F92-0EA17E59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848F7-790A-4F30-9BB9-082541F7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A610E-B3B8-44A1-A11B-4FF08A24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393B7-721E-446D-95AA-D8CAFF1A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9ED13-C65B-4B65-B0C3-35EA918B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04AB5-FE3E-4E2C-9550-C029CA54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E8E1A-893B-4692-A853-8DB2D63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5FA58-7119-4612-902E-10AB56CD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E7226-E0EC-417D-B422-6D29E9B8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06991-06EB-49D7-BADC-9B72F2D5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8A1E-B676-4041-A844-1895DC7D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B6410-0B18-4E18-AE4A-7657FC2E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AB9F0-CD30-43AE-B001-983EBF1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28E02-A0CB-4AC4-AE8D-FA47B57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5A200-9B52-40DA-A443-2C24A37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093C8-A2C4-4BFD-9C13-0FF3D2F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CFAC7-F16D-449F-B5F1-3D07EED0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EC3A2-108A-437D-890C-2A0514C5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15DF7-C72F-4A0E-8248-1FA15F04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222C7-AA2B-40EC-A9F9-6F6BFC4A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EAFD0-E637-40E3-888A-DF73BE2D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A879-5F95-4D5A-A0F7-A8F579A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04822-0934-41BD-AD12-7A209C5B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8D8F0-E6E0-4CAE-872D-F8ABD1BF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BF321-4024-475B-A9CC-8CE8838C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25E32-23C1-4412-996C-DE266481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4ED5C-C44B-477B-A147-15B100E9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4EC82-0F35-4E03-A2B4-314C823C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8AC3B-6F77-4215-BB25-8B9A75F8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363FB-FC69-4E06-B02A-BF99B978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E0ED8-DAFD-4D02-B5B7-EEA8DD98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90A28-9BCE-493F-A2A9-25C73580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9759-72EF-4DD9-B713-5D6E2AAA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02DFA-A3DC-418F-B2FF-20D9E252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030F7-011B-4EB9-ADFC-BF6082C5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BFF2D-E3FD-4313-860D-B6525ECD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C0BB7-1277-4877-B701-00B6D5CD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A2D06-C2E9-4667-96B5-1DC18685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34300-E933-4595-97D1-60979590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B5DB3-7D7C-40F6-BF91-48AA77AF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71E24-D3C2-4DD1-AA94-4E935C43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2C896-D43C-4500-889A-01CEE57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40E57-1894-468C-8812-736C8F51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5EB1-EFE0-4F66-980A-DA04AE89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3F11C-724D-4BDF-8309-64B55E4E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5B933-4F21-4E4C-8175-64C4E032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DFEB0-314B-423E-8B37-28C45509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FF5AF-B047-4BD6-BA7D-5170A098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E1290-B315-4C31-ABD4-7F494E61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D26AC-AD11-4DE1-BAA3-CE65986B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8B6CE-8E05-4C33-829C-13D1D965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D5C22-4A99-4A4E-8A43-D9D955C4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FE7C6-69EB-4E39-AA66-A8995200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FA90D-FA2E-480B-A689-A7C694F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1AFA-C51B-4405-9637-42E186B1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D1875-07B1-4967-BF2C-A001DF34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57BAC-86D8-4510-A048-0F108191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04486-5605-4B9C-A803-F7472011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BD6B1-530B-4796-AAB6-C2FE29EB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90C3D-6B69-47FC-8E36-CDD928EB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B5240-A368-470A-9FB6-80779DED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F84BA-55FD-488E-AF90-D44A04CD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1DADC-672C-46F8-A058-09794F53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E301D-4FB0-4B5D-9ABA-8AF8343B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03AA81-DA03-40D3-A8E5-DCEC7292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AEC-F680-4560-A422-86DBB069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1684-1C6F-4C86-83D8-0DBDD842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9C12B-9258-497D-9EFA-14DD2A3D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DAD7F-DEC8-419E-B16C-A40E6FA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3064A-6EA4-4C20-B416-48665F21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C50C5-A2C9-43AF-84FE-43CCF5F5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06C88-9550-47D8-B7F3-2862798E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32C99-0AD3-453F-ABDE-8B875988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56A1C-21B5-49C9-AA1C-FAFFA9AC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309F7-64B3-413F-9298-617DA904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2AA3C-F8FB-4C14-B5D3-D85A5D6D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CF8F29-783D-4D65-AF37-11ABE368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68C9-8DC9-4B99-B331-D7E0F59C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E52EFC-AAAB-409E-AB7B-51211A26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77686-B107-4892-B300-08A916E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B29B5-0234-4112-842B-D6C5382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E5EC4-279A-4050-A273-0C3A6A53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90327-500F-433E-9C39-2F070076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0670F-32AC-4687-AB18-A391EBAA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E26A3-38A6-4AA2-94FE-51BC5D13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92BAA-B380-4DF1-B7C2-4078DD7E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BFA193-32B5-4283-A34D-C74134D1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8B6FC9-E679-4055-A01B-42CE88C6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1049-8510-4CA3-8936-955E234C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E5F46-30EB-49BF-AC9B-7947A58D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1754F3-164D-4951-B268-3BD7AC17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93BD68-AEF7-4720-A10D-445F31C4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6CC56-EA4A-4EF8-95F8-CF34994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B8BCDB-57DD-4FCC-A82A-A0A4C04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AC6E8D-C595-406F-8B89-E49E724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3FAE0-25F4-4202-A905-BFF92284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CABFB-F67B-437F-976E-D7FF2227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AAA07-3F3E-4B37-8896-D921E2FF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2C006-3FE4-4E66-9BD3-2E805221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9F09-2826-4099-A008-384F87E7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0816B-DC13-435C-91FD-10E16FAA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38F413-FB32-402F-B7AD-0A1C018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7CFC71-F1D3-46BE-9DCE-FC604BCB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820A3-D53F-409D-BA7E-BBF2477E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000A99-07B1-400B-AEFF-2C402060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97806B-1C3C-421D-A2AC-AD986A8C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EB8B0-7C59-4FF4-A11E-7696B939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A35D8-8010-4204-822A-B8BBCF98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703C6-0161-4003-ABB2-51B48027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93E1C-E721-4C33-A712-C624EBEB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554C-1CAA-443E-B73D-45592026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C8FB15-50B0-4145-A63B-919972CA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0D6391-C1DA-4BBB-9C94-0638ED36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2D63BD-1521-41E6-ABDD-C1D88F29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F7C6D-BD76-401B-8B9E-814DFD12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14CF6-DF4F-49D7-AF2D-1C3DAD51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B19CC-A85B-47A7-8274-C058A735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250B85-4ED1-46D8-95EC-7658C81C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42512-73E8-4339-96B1-68B6BDA7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94615-E08D-47C4-972C-DAB8ED2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6EEB59-8EE4-4DAC-B80C-57F24FCA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2806-5D63-45A1-BA81-6136798C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1B7730-AF64-4140-BFD7-BB67A304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77E6C-09E1-4F84-89BF-DA648EF2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695295-B30C-47CD-A01E-0F0B105B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B71B8-4FC1-49F0-9A61-EBA92615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C7D7F3-CEA5-44F0-8C83-3D70EDD7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34E390-ED19-46E3-8F5A-EC810B4F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1B38AB-B727-4A8B-8B85-1EEA9BEF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10C44B-1A11-478C-B3A9-4F7DB2AB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E644A9-DE20-4B91-A3ED-12C669A0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00B83F-BD35-49BF-BBDA-4DDDA2E4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3814-9166-475C-9E46-CB7C5E71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890B1C-BC15-4115-BC43-BE4474CD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52295A-EE8C-4FFC-936A-49B41439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1BB843-A1D9-4E3A-8B0D-971E0AA0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615834-0D24-4AAF-B2F7-A0C1316B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CF76D9-6323-49C8-9DA5-2E9FB487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89B48D-8EF6-406C-8097-E337E613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1DB4A2-3BB2-4376-A4E3-6D871011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D06E33-F1FA-4747-BBCB-C45FE092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A7E4E0-8475-4951-8F0F-9D7ED16C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46F92B-AF8C-4E62-AD56-35829033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8BEF-DC71-4B82-88D5-FA09A017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584FB4-F09E-4368-AA58-EB1B8E89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5443BB-82B8-4FF6-A0C1-8968A24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7A650D-D2A8-4431-B213-7D7A6B2C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76FC22-A12F-4672-BDE7-AB522F4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7ED043-29AF-403B-B3DA-259EDF18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B613C7-2389-46C0-891B-250DFB45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1A09AC-BFA8-415B-870B-1AF7CFA0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99C7-8DC3-4387-B24D-4C27BD7F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CAF6-5716-471A-849D-B0731149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25A-699F-4B5D-95E6-029FAD73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A385-0149-46B0-A709-2A451DED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6828-F8B8-49A6-91CB-F8197935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8CEB-02F4-4229-A3E4-6B02AC22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2DD0-7827-4E5C-A2DC-3C55B35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618D-2940-4012-A423-CE068529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583C-6623-44B8-A43F-7A7B5950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EE18-A8C6-44B8-B2E9-43824C5E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456B-D1A3-4C5B-9801-8190D086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00F0-6D04-4938-9D31-5A8F4632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0E7AD-8DA0-4AC8-BBEF-301AEB2E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1BD-BED5-4001-A8CD-278C9E78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878E-1FDD-4E19-9882-9E0E277B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AD7C-BE4C-4626-BDA5-351F9D08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D68B9-677C-4261-B9B6-0F1B159B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1681-0F90-430E-BA95-BE5A9473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8E44-4356-4FF5-838C-BE482F3F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71E15-94FD-4F1E-85A2-D5B6D9BE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DAF91-8AEE-4016-8FBA-75B021C0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B095-0484-425B-AE79-726D2B4B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7FE9-0D4C-45A7-888A-45B2F317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505D1-71EC-449C-84F2-127DE50D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26D-7E14-4551-AB4D-7B30C697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F3C9-CFE7-4B5F-9D5D-D2B86CC5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24912-0030-48AD-9651-F243D1A0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B5F7D-A677-4FF8-8623-D0DF5F6D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DECD4-7328-4B35-9110-D6D6B463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DA433-A4C2-4E69-BE97-CFE98902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32986-1059-451D-A9B5-E19C0B3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C665D-D1F7-45C6-B533-84DF55C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CEFC6-4DE2-4CB1-9EE2-C1ECDC7F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52042-CA05-4132-A14D-071628C6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5B45C-D2DC-4C69-930E-4FD716AB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043-7357-456F-BD08-69249594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2F4E6-8BF2-487E-BAD6-67A01EA7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ED046-A54B-47F4-AEA0-BF6E9838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4D9CD-D529-43AB-8DD8-7244A03B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B0BE-0B6C-418E-A186-524C0352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917A-B864-4C07-87D2-CDC4020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41C96-E126-4BA4-8760-29D1A118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64776-CB2B-44AC-9A7C-D921BB9B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250C5-13A4-4D5C-8649-0F70FE33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A40B5-5F2F-48D7-83F9-8E247247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C1999-3FAD-4E29-A0BB-7F1EC47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5B8-C892-4F52-B62A-9E433323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04ED1-5443-4EB0-B900-C94E6C12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52CB-AF29-4CCD-9837-DB809037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7DD86-02AF-403B-97B3-DB6662AD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CC81E-F728-4CE3-B49D-30422423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278B-9D27-40FF-8E80-89B16A7F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747F4-BC03-4177-911D-B97FCBE1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4C12-A15C-47B4-BFB5-30A5CA4D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18F51-541E-43A7-B505-E9A93F19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3116-AF31-4280-BF89-EED3E3A1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A23C6-3479-4C01-8EF2-DA9AB7BD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997-40BE-44C1-A572-6ED7C2DD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3B819-D0C7-41F2-9ECC-52FC494D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DA5E6-050E-4794-B3AE-F68475A7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7FE65-E017-46BC-A4FF-AAA0C842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98CC1-5211-4203-8F37-EBB34AB6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4ADAA-E548-4A38-ABBE-588CE17D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C18CF-E0B4-4599-BDE2-6C372665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49E6E-984C-4CE5-9429-95935224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EAFFB-0893-4ADA-9227-B6A5EDB5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4A3EB-E11A-4EA7-B1FA-4583FC22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A15A2-2BAA-476B-9BE0-6887A96C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FE4-33C4-48BD-BABE-9532ED2A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CBF9B-3260-4D7F-9F44-ED1AB6DF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D39CA-440E-4E23-BDA9-3D741074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E2E96-607E-4607-BE1F-9336314E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E4C05-A185-41FB-B402-1A38ABA2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3B4F2-EAF1-4D5A-B253-1E854BDE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2EE82-3BE8-4A5F-A19C-2131007A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6363B-4C5A-4300-AFA2-15CF899D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8D08B-5A7D-4F20-A01C-2A0A5723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06117-6623-4439-9C10-FD09DFD3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81114-F08C-4FDC-8333-F2CAF941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0C92-0B1C-4011-AE04-97746715DB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8861-899D-4BD3-B150-4BFB301159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53D3-AC3E-4145-B0C0-04A5117181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0E35-8313-4B74-BECA-6D901B4FEA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7B7E-4BDA-450E-B7BF-16F1789B04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B724-FB14-4B14-922C-114DD839F5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C373-53A0-4419-B9C3-45F6F09017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B1B1-9791-40EA-B3AE-D068C1DFC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69A5-0CCF-47BF-85AA-13D0E11780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32D1-DB6C-45C3-A6A6-A17D5D0A72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E9B1-00AA-4459-887E-57C9AC0CBA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59F1-2F8C-428A-95EF-D3F790E231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AB8B-439A-4592-92C6-6E4D127562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2734-A7B1-4CB2-9ADF-6BDD1DE02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6563-96D5-4D6F-BB39-FFBFABABB8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BF70-75D5-45D6-9862-B84130BBF7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5C5-6701-48B0-AC18-130811AAB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B453-2207-4DF8-A2AC-15717FE8B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2A7D-7EBF-47CF-A227-A9972CB2AD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FFC4-1536-4760-96CC-4CBC436E3D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12BF-6AD0-4D5A-AE33-A0FEC7AA0A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BE67-A46A-47ED-BDE8-5FFB294E3C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95E9-E094-4858-9969-742D17A4C7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42DF-BD79-41DC-91F4-8F8109B66C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A80D-79C3-4ABE-94D7-E615033EC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FF49-0A4F-4415-A228-58A4A607F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1145-A01A-4426-9B85-006E87B42D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1492-022A-471F-899C-5F02EFEDB3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C5F5-6793-4FAE-A405-9BDC2BF498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F0A2-9E73-4024-BA3B-AE318920B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6C48-FE49-47F4-93FD-48E567D92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27EB-8AEC-446E-B42D-CD9237637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12E2-3E89-473E-B714-C6DE3F7816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76F1-23C0-44FC-B294-15DB7B8608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976A-E7BA-4826-B370-D56B6A9B4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0427-3799-4080-9F84-DB27559E29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A18C-D026-45CA-BA1B-D6BE0F223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4758-FF56-42AA-A497-DA5F32222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ACCD-AB55-4698-B656-CF6AF04BFB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FDCA-BC7F-42E3-BF4B-0C064DBE14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1CAA-A05B-42BB-A790-A867584097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5DC-5CBD-43C5-A2D1-DC4FDE22D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138400" y="3191040"/>
            <a:ext cx="486720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09440" y="1471680"/>
            <a:ext cx="8925120" cy="39146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716360" y="2565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4211640" y="292428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508720" y="292428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6732720" y="292428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940360" y="32846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1332000" y="393372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5651640" y="393372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1360440" y="4710240"/>
            <a:ext cx="43200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3233880" y="466740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5494320" y="4710240"/>
            <a:ext cx="66204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3"/>
          <a:stretch/>
        </p:blipFill>
        <p:spPr>
          <a:xfrm>
            <a:off x="7711920" y="4667400"/>
            <a:ext cx="66204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4"/>
          <a:stretch/>
        </p:blipFill>
        <p:spPr>
          <a:xfrm>
            <a:off x="1403280" y="5056200"/>
            <a:ext cx="662040" cy="318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5"/>
          <a:stretch/>
        </p:blipFill>
        <p:spPr>
          <a:xfrm>
            <a:off x="3348000" y="5013360"/>
            <a:ext cx="662040" cy="3189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16"/>
          <a:stretch/>
        </p:blipFill>
        <p:spPr>
          <a:xfrm>
            <a:off x="5580000" y="501336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17"/>
          <a:stretch/>
        </p:blipFill>
        <p:spPr>
          <a:xfrm>
            <a:off x="7740720" y="5056200"/>
            <a:ext cx="720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38240" y="1481040"/>
            <a:ext cx="8867520" cy="3895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165564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684360" y="2190600"/>
            <a:ext cx="5182920" cy="3193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5183280" cy="3193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755640" y="3543480"/>
            <a:ext cx="5183280" cy="318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755640" y="4538520"/>
            <a:ext cx="5183280" cy="319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755640" y="4869000"/>
            <a:ext cx="5183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61920" y="1276200"/>
            <a:ext cx="9020160" cy="4305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539640" y="259380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468360" y="2940120"/>
            <a:ext cx="5040360" cy="318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466560" y="429264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395280" y="4638600"/>
            <a:ext cx="5040360" cy="319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466560" y="488304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395280" y="5229360"/>
            <a:ext cx="5040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49:1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